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F91-B28E-4156-B5EB-6683EDFC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E10-0DCE-49E9-A96F-3CA4315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1FE-778F-4464-A1C8-D3420465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325-B1F9-4BEB-837D-D31C8168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0C6-5532-4A64-8735-03CC43B8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B08-50E0-4B8C-BC4F-486EA77E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945-78AB-4A44-8D39-3A96EE74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FFA-4A95-4195-958A-175C59DC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F88-7724-4FC0-BC9A-3579A20A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212-427A-46E8-89C5-45C04613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020-0FF2-48D0-9BF7-5871BB1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68F-A3DD-4147-849F-B86C9E04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CDA1-F2F6-4602-86FA-CE921D724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pactednurse.com/?p=2144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y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nocturnaldialysis.org/LOWBP.LRG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w-functioning kidneys, dialysis machine can filter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is hemodi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687760"/>
            <a:ext cx="38098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ly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www.metrohealth.org/body.cfm?id=14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move toxic wastes and maintain solute balance, but cannot perform other functions of kidney (hormone releas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83080" y="1981080"/>
            <a:ext cx="233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Transplan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mrbobgardner.blogspot.com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00160" y="198108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lysi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on next slide from: http://lifeinthefastlane.com/education/investigations-tests/urinalysis/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ct many metabolic and kidney disorders as well as urinary tract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can be assessed using a dipstick or at a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Test Dip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9880" y="1981080"/>
            <a:ext cx="512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rmation on how to interpret results of urinalysis dipsticks, go to “Urinalysis for Dummies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mpactednurse.com/?p=2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1 - body cannot produce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2 - cells fail to use insulin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tional - hormones of pregnancy interfere with action of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lysis would show high levels of glucose (and greater volumes of ur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Insipid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d by failure to produce ADH or lack of cell response to 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ADH means that less water is reabsor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greater volumes of dilute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ght’s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nephritis, an inflammation of the neph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ype causes destruction of glomerular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lysis shows large amounts of protein in urine (and greater volu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rom: http://healthcareguide4u.blogspot.com/2009/05/kidney-stones.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precipitation of minerals, can be alkaline or aci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603520"/>
            <a:ext cx="3809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Stones - Treatment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s from: http://www.freeclinicproject.org/the-natural-way-of-passing-kidney-st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otripsy (shock-wave thera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eteroscopy (and placement of stent or removal of st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1:17:53Z</dcterms:created>
  <dc:creator>rubina khan</dc:creator>
  <dc:description/>
  <dc:language>en-US</dc:language>
  <cp:lastModifiedBy>rubina khan</cp:lastModifiedBy>
  <dcterms:modified xsi:type="dcterms:W3CDTF">2011-12-12T02:31:09Z</dcterms:modified>
  <cp:revision>165</cp:revision>
  <dc:subject/>
  <dc:title>Formation of Urine</dc:title>
</cp:coreProperties>
</file>